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B28D-FE41-4057-B9C6-44A7BABB3EB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2482-BDA1-476D-9346-1419F65EED4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3DA9-2483-4247-AC47-B5746258CE3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B1C3-44D3-48F4-B6E7-2287341B396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2CA7-FC92-4220-B29C-D53AF621380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B837-C589-41BF-8394-60933744744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0744-EA33-476C-9600-AE331C659DC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C477-7846-49F2-80B0-5A2D9EC7316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5AA6-7334-434D-B3DA-4A8E7B89018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D44D-359E-4A41-94B3-D5B7E868213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994C-13AB-4357-A3B3-9138D8A9D15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659F-8FC1-4CA3-8F94-CC9498F6CF5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BCC9-EF17-418C-97CE-D9ABA890355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BF49-CB10-48E9-9591-F568AB29FBB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16DF-E0A0-4EE5-AAED-BFC21B24D3B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883A-2171-42CB-A4EF-3B5D50A48CC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8B1-BD43-4298-AD76-33D18B8D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F8F-F27D-461C-8A7D-EC81F23E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571-A400-45B0-884B-16DA9E1D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DEE-1A47-4EA3-A48F-37325CDE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1833-2269-4F3D-B74F-C41CA306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6A98-0497-44D3-8BEE-30F5BBCC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673B-0825-40B7-B09F-D71FCBBF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D473-ABAA-4517-B6C8-504DAFC9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9430-3981-4567-911D-A83727F2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48C7-D7BF-417A-819C-D7729B28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A4D7-2DB9-47F5-91F4-3DE89839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3C1-776F-4843-AC66-777C9AB2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D126-D2A2-4D83-BF2A-568D5FCD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3B28-FE97-44DB-9976-90DB1714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2F10-9AE4-4477-8AD0-C3B807D6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BECA-3C3C-4459-81C3-42034271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B847-4603-4F26-BB1E-5F80871E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A7F-D803-4B5B-BB3F-8B0F8ACE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98A-045B-45CF-847F-482E67C9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094-AC45-49B9-910D-0DFDCDC2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477-22BD-4DD8-AF57-63210366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A3C-3497-4465-90E8-1859C6AE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5A7-9857-43F7-BEC5-D4F8ACD7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872-9E9F-4975-83ED-76BEED22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C502-6D69-431E-9568-133847776098}" type="slidenum"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52"/>
          <p:cNvSpPr/>
          <p:nvPr/>
        </p:nvSpPr>
        <p:spPr>
          <a:xfrm>
            <a:off x="-36360" y="907920"/>
            <a:ext cx="9144000" cy="0"/>
          </a:xfrm>
          <a:prstGeom prst="line">
            <a:avLst/>
          </a:prstGeom>
          <a:ln w="63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2"/>
          <p:cNvSpPr/>
          <p:nvPr/>
        </p:nvSpPr>
        <p:spPr>
          <a:xfrm>
            <a:off x="-36360" y="907920"/>
            <a:ext cx="9144000" cy="0"/>
          </a:xfrm>
          <a:prstGeom prst="line">
            <a:avLst/>
          </a:prstGeom>
          <a:ln w="63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Pytheas\Desktop\Working stuff\CerOrganic\logo-tr.gif"/>
          <p:cNvPicPr/>
          <p:nvPr/>
        </p:nvPicPr>
        <p:blipFill>
          <a:blip r:embed="rId2"/>
          <a:stretch/>
        </p:blipFill>
        <p:spPr>
          <a:xfrm>
            <a:off x="7026120" y="27000"/>
            <a:ext cx="2076480" cy="863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LP-logo.jpg"/>
          <p:cNvPicPr/>
          <p:nvPr/>
        </p:nvPicPr>
        <p:blipFill>
          <a:blip r:embed="rId3"/>
          <a:stretch/>
        </p:blipFill>
        <p:spPr>
          <a:xfrm>
            <a:off x="0" y="189000"/>
            <a:ext cx="1857240" cy="65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74EA-0543-45E5-AB4C-ED481AE42251}" type="slidenum"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rOrganic Training 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2 - Θέση περιεχομένου"/>
          <p:cNvSpPr/>
          <p:nvPr/>
        </p:nvSpPr>
        <p:spPr>
          <a:xfrm>
            <a:off x="826920" y="4786200"/>
            <a:ext cx="74980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04387-LLP-1-2009-1-GR-LEONARDO-L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-funded by the European Un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rough the Leonardo da Vinci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 - Τίτλος"/>
          <p:cNvSpPr/>
          <p:nvPr/>
        </p:nvSpPr>
        <p:spPr>
          <a:xfrm>
            <a:off x="468360" y="23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Module CXX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3500280"/>
            <a:ext cx="7497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alibri"/>
              </a:rPr>
              <a:t>Unit CXXX.X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. Conclu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5000760" y="648828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i.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680" y="2643120"/>
            <a:ext cx="84247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a summary in bullet points of the most important themes of the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5286240" y="650088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ii. 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1680" y="1643040"/>
            <a:ext cx="8424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ic bibli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details of mandatory reference material that is provided  or available from open 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lementary bibliograph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details of non-compulsary  reading mate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b pages / l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links to relevant / interesting web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648828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iii. Evaluation of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714320"/>
            <a:ext cx="84247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unit contributes to Assignment X (X = 1 o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ease provide any means for the assessment of learning, provided for use during this unit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786200" y="650088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indicate any connec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ollowing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4786200" y="650088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79280" y="243036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 more information on unit CXXX.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0" y="371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please provide a contact emai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5143680" y="6488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uctu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400" y="1500120"/>
            <a:ext cx="8280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utor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ims &amp;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earning outcomes &amp;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thodology &amp; 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ain P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i.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valuation of lear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4920" y="6505560"/>
            <a:ext cx="30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CXXX.X,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6048360" y="6505560"/>
            <a:ext cx="30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tor name, Organ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i. Tuto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197000"/>
            <a:ext cx="842472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include a short CV, focusing on experience, skills and competences related to the un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4000680" y="648828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ii. Aims &amp;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196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describe the aims &amp; objectives of this uni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described in the unit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572080" y="6488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iii. Learning outcomes &amp;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196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describe learning outcomes &amp; skill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described in the unit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29160" y="65008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iv. Methodology &amp; m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196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describe the methodology and contents of the uni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described in the unit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4786200" y="648828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Main p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000760" y="648828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i. 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1680" y="2643120"/>
            <a:ext cx="84247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a glossary of any unfamiliar terms introduced in this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929120" y="6488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ii. Pres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insert the slides of yo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t presentation he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4643280" y="65008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8:35:36Z</dcterms:created>
  <dc:creator>ΜΠΑΜΠΗΣ</dc:creator>
  <dc:description/>
  <dc:language>en-US</dc:language>
  <cp:lastModifiedBy>koubouris</cp:lastModifiedBy>
  <dcterms:modified xsi:type="dcterms:W3CDTF">2011-03-31T11:39:57Z</dcterms:modified>
  <cp:revision>114</cp:revision>
  <dc:subject/>
  <dc:title>Organic.BalkaNet</dc:title>
</cp:coreProperties>
</file>